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5D5-A61B-4731-9C25-726FDD45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B94C-C367-424C-A4BA-54CBD8EB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F418-9EAE-4D36-B430-016DCB0D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1FF-3283-4E0D-BEBD-0F99AB6C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374-3957-453F-A881-F0EC0CFB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B4E-1DAA-4424-A42F-095CF160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51E7-241B-49EE-AB55-86CC80D5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0F8-A704-42D3-ACFE-A0B55647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DF2-155D-42EA-A412-3723F330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6B0C-6964-491E-9201-45BB2CA1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42B-515F-41DD-9B67-5CA580D1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E47-2BD1-4120-A213-AB87F442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3E18-2FD4-47E2-A019-ACD49D385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2.02: Parallel and Perpendicular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that is perpendicular to y = 1/4x + 7 that goes through the point (4,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that is perpendicular to 4x - 2y = 9 that goes through the point (8, 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ame slope, different y-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y = -2x +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-2x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pendicular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lopes are the opposite reciprocal of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y = 1/2 x +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-2x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slope of a lin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pend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-2x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y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x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4/3 x -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slope of a lin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pend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x + 8y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- 6y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lines -4x + y = -5 and y = 1/4 x 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, perpendicular, or nei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whether the lines are parallel, perpendicular, or n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y =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-2x +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1/3 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x/3 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parallel to y = -3x that goes through the point (3,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parallel to y = -2x + 3 that goes through the point (-3,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3:14:52Z</dcterms:created>
  <dc:creator>Sharon Fieldman</dc:creator>
  <dc:description/>
  <dc:language>en-US</dc:language>
  <cp:lastModifiedBy>njamison</cp:lastModifiedBy>
  <dcterms:modified xsi:type="dcterms:W3CDTF">2011-05-04T14:04:02Z</dcterms:modified>
  <cp:revision>18</cp:revision>
  <dc:subject/>
  <dc:title>Goal 2.02: Parallel and Perpendicular Lines</dc:title>
</cp:coreProperties>
</file>